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2A64-E2B4-4103-A253-E97E2019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936-625F-45A2-831A-23ADA9C2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08F-9B89-4A1C-B0EC-2B6A0A29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126-DC27-420A-955A-6F4333A7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F3A-4204-46B1-90A4-13D76A38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6DF-86EE-4588-8A30-C008C7D4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CC1-CA7A-4AC2-B944-A1F61795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F8B-90F6-4C5A-84A8-FAEE5D3A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FF0-4B7C-4440-B32B-459E6410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2B9-3D1E-48B9-B619-45682F4D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116-EB68-4470-AE10-D5A85A17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A60-50B6-4E96-A89D-B1F66D43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0F5A-4347-4209-878F-8672CF904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2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38:02Z</dcterms:created>
  <dc:creator>Jennifer Schwinghammer</dc:creator>
  <dc:description/>
  <dc:language>en-US</dc:language>
  <cp:lastModifiedBy>Jennifer Schwinghammer</cp:lastModifiedBy>
  <dcterms:modified xsi:type="dcterms:W3CDTF">2008-05-27T18:38:32Z</dcterms:modified>
  <cp:revision>1</cp:revision>
  <dc:subject/>
  <dc:title>Slide 1</dc:title>
</cp:coreProperties>
</file>